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954838" cy="92408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C6AE7-37F7-4679-90A5-E7AEC00A9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19906-848B-42FF-B852-847EDAA63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BFBA2-F588-4076-B511-8A2275E7D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15C0F-BA56-42AC-9201-8D1CCAC44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B0499-C43D-43D6-A874-030553637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E43CB-B672-415C-8422-F049274F7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5FC80-6750-46E1-BA58-6FC598834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2F109-A88F-4531-A952-43CA1D27D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95318-7E48-4A27-B7ED-87978B89A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162CE-835F-4AF8-92E7-4C47D1ABF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B2A84-85DE-4081-93EC-916715FF1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D409E-3FF2-413E-941C-0CF24AF37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"/>
          <p:cNvSpPr/>
          <p:nvPr/>
        </p:nvSpPr>
        <p:spPr>
          <a:xfrm>
            <a:off x="533520" y="6095880"/>
            <a:ext cx="2895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Educational Research: Competencies for Analysis and Application, 9</a:t>
            </a:r>
            <a:r>
              <a:rPr b="0" i="1" lang="en-US" sz="1000" spc="-1" strike="noStrike" baseline="30000">
                <a:solidFill>
                  <a:srgbClr val="000000"/>
                </a:solidFill>
                <a:latin typeface="Tahoma"/>
                <a:ea typeface="ＭＳ Ｐゴシック"/>
              </a:rPr>
              <a:t>th</a:t>
            </a:r>
            <a:r>
              <a:rPr b="0" i="1" lang="en-US" sz="1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 editio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Gay, Mills, &amp; Airasi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5638680" y="6172200"/>
            <a:ext cx="2210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© 2009 Pearson Education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343400" y="609588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98793-0949-4938-952C-51BDB4582EEB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33520" cy="68580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848720" y="6172200"/>
            <a:ext cx="1130040" cy="41904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4">
            <a:lum bright="70000" contrast="-70000"/>
          </a:blip>
          <a:stretch/>
        </p:blipFill>
        <p:spPr>
          <a:xfrm>
            <a:off x="1219320" y="609480"/>
            <a:ext cx="7696080" cy="5486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" name=""/>
          <p:cNvSpPr/>
          <p:nvPr/>
        </p:nvSpPr>
        <p:spPr>
          <a:xfrm>
            <a:off x="2743200" y="59436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237840" y="5334120"/>
            <a:ext cx="2416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itle, E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© 2009 Pearson Education, Inc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3886200" y="6286680"/>
            <a:ext cx="1130400" cy="419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0E264-8502-4866-94EC-DE999D9D1A2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lsoft.com/lists/listref.html" TargetMode="Externa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680" y="76176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Chapter 2: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Selecting and Defining </a:t>
            </a:r>
            <a:br>
              <a:rPr sz="3600"/>
            </a:b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a Research Topic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Courier New"/>
              </a:rPr>
              <a:t> 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jectiv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Courier New"/>
              </a:rPr>
              <a:t>Select and refine an educational topic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Courier New"/>
              </a:rPr>
              <a:t>to stud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Courier New"/>
              </a:rPr>
              <a:t>Distinguish good research topics fro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Courier New"/>
              </a:rPr>
              <a:t>less appropriate on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Courier New"/>
              </a:rPr>
              <a:t>Distinguish between topic statem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Courier New"/>
              </a:rPr>
              <a:t>for quantitative studies and those for qualitative studi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Formulating &amp; Stating Hypothes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hypothesis is a prediction of the researchers’ expected finding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studies contain more than one hypothesi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archers collect data to either support     or not support a hypothesi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ten hypotheses are included in      research plans and report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Formulating &amp; Stating Hypothes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ypotheses are central to most      quantitative studi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ypotheses in quantitative studies are formulated before conducting the stud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aspects of a quantitative study are affected by the hypothese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ypotheses are derived from theory or knowledge gained through literature     review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Guidelines for Hypothes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ood hypothesis is based upon        sound reasoning and is consistent          with existing theory or is derived from previous research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ood hypothesis provides an    explanation for the predicted outcom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ood hypothesis clearly operationally defines variables and states expected relations among variabl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ood hypothesis is testable within a reasonable time fram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Types of Hypothes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ductive Hypothesis:                            A generalization based upon observ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A researcher observes that students          are motivated by praise; this observation becomes the basis for a hypothesi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Types of Hypothes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ductive Hypothesis: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rived from theory and provides evidence that supports, expands, or even contradicts the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Based upon processing theories, a researcher forms the hypothesis that students will attend to moving objects in an educational computer game.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        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Types of Hypothes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directional Hypothesi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s that a relationship or difference exists among vari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There are differences between male          and female students in spatial abilit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ional Hypothesi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s the expected direction of the relationship or difference among vari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Male students will outperform female students on a test of spatial ability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Types of Hypothes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ll Hypothesi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s that there is no significant relationship           or difference among variabl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ll hypotheses are stated when there          is little existing research or theoretical      support for a hypothesi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Types of Hypothes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ll hypotheses are also more        conservative than directional hypotheses      in statistical test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studies are not based in the null hypothesi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There are no significant differences in    spatial ability between male and female     student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Stating the Hypothesi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219320" y="1752480"/>
            <a:ext cx="761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good hypothesi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clearly and concisely state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s the relation or difference among variabl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variables in measurable term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Stating the Hypothesi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el for hypothese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=The participa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The treatment, the causal or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variable (IV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=The study outcome, the effect or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ent variable (DV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Chapter 2: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Selecting and Defining </a:t>
            </a:r>
            <a:br>
              <a:rPr sz="3600"/>
            </a:b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a Research Topic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Courier New"/>
              </a:rPr>
              <a:t> 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jectiv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Courier New"/>
              </a:rPr>
              <a:t>Identify or create good research hypotheses for quantitative an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Courier New"/>
              </a:rPr>
              <a:t>qualitative studi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Courier New"/>
              </a:rPr>
              <a:t>Explain the differences between null, directional, and non-directional  hypotheses and discuss the use of a directional hypothesis in a stud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Practice Examples: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y the P, X, &amp; Y: The purpose of this study is to examine benefits in ninth         grade students’ achievement based upon attendance at a Saturday tutoring      program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=Ninth grade stud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Saturday program attendance or nonattend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=Achie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Practice Examples: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y the P, X, &amp; Y: The purpose of this study is to examine differences in social   skills between those middle school      children who are involved in extra-    curricular activities and those who are not involved in extra-curricular activiti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=Middle school childr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Extra-curricular activ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=Social ski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Testing the Hypothesi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hypothesis is used to guide the research     study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searcher conducts the study and then   analyzes the data to determine if the hypothesis      is support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ypotheses are not proven—they are supported      or not support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able contributions to the literature can still       be made if a hypothesis is not supported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ypothesis testing contributes by expanding, refining, and revising the literature base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90360" y="7617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Formulating &amp; Stating Hypothes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Qualitative studie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qualitative researcher does not     state formal hypotheses before    conducting studi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ative researchers may develop guiding hypotheses for the proposed research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320" y="617040"/>
            <a:ext cx="7877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Formulating &amp; Stating Hypothes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Qualitative studie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ative researchers often generate  new hypotheses during the course of    their stud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ative researchers may generate research questions from their guiding hypothes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The Research Topic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ng and defining a research topic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the first step in applying the scientific metho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research process is not linear and is often a process of trial and erro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research topic provides focus and structur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research topic should be releva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d of interest to you.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Sources of Research Topic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219320" y="205740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o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sonal experience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udies that can be replicate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ication studies use a new sampl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retest a hypothesi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nic mailing l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lsoft.com/lists/listref.html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brary sear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Narrowing a Topic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topics need to be narrowe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ics that are too broa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larger literature review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licate organization of literature review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ad to unfocused studies that are difficult to    carry out and interpre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rrow quantitative topics at the start of      the research proces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ative researchers often narrow         their topic after they are in the fiel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haracteristics of a Good Topic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topic is interestin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topic is researchabl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topic has theoretical or practical importanc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topic is ethical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topic is manageable for you give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r current skills, resources, and time availabl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Stating the Research Topic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tative research top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topic statement describes the                 variables of interest, relations among              those variables, and aspects of the  sampl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, The purpose of the study is to investigate             the psychometric properties of a new measure of    spatial ability for middle school childre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, The topic to be investigated in this study is    parents’ beliefs about homework for primary             grade childre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Stating the Research Topic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ative research topics are often      stated in more general language at the   outset of a study because the focus of        the study will likely emerge after time in      the fiel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, The purpose of this study is to describe the experiences of elementary students who have previously been retaine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, This qualitative study explores the feelings of new teachers in large urban district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Placement of the Topic Statemen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2193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topic statement is used in research plans and in research report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arch statements are accompanied by background of the study and justification for the stud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potential relevance of the topic       should be stated. Thinking about    significance of the topic often assists researchers in formulating hypothes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hristina Robb</cp:lastModifiedBy>
  <dcterms:modified xsi:type="dcterms:W3CDTF">2008-05-15T20:06:14Z</dcterms:modified>
  <cp:revision>38</cp:revision>
  <dc:subject/>
  <dc:title>AutoCAD Architecture 2008: Part I: Getting Started</dc:title>
</cp:coreProperties>
</file>